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B8AA-5C99-47AD-888F-C52998956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4168-DF07-461F-A6D0-1DCCDAA2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275F-DC8D-4518-A0D5-7B8B0C3E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FD26-2E7B-4E45-AF88-96B29DC0E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415BF-4F9F-412D-AD06-7E218FAE9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4E5C3-4A3D-45B1-BA5D-E7AF4325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48F55-F35C-401C-A37A-2902E7ED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7B86B-C465-46FB-A3B8-80881C25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04BB2-3089-420B-8617-20B65EBE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4F6A2-FEAC-4435-9BCD-6FAB22A3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63095-7EE9-480E-80D0-0516BC06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747E-6137-4B22-B76E-9472DDAE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197F2-805E-45DD-B0E6-179F02E7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D83DB-7B7A-4DBD-9FC4-3F955F14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1A71A-7ADF-42E8-9A15-1B261726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BA269-CAA8-4C17-9636-28324A32E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BFC34-7607-496E-BFF0-910676BAB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7908-653C-4166-8758-ED704ABB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6F9A-1A1E-469C-A1C0-8EF971F6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8AE5-2F68-4AE5-BD76-B1B21A96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E1BA-ADDC-4992-8309-D443230F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4F67-46BA-4EE3-BD4B-5C5CA4F6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C2DF-ABB9-429C-BA86-096105C0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8817-C214-4024-86BF-F69FA29E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9D42-3B11-42F6-BD56-FF72FB3BE1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1208-298A-49CA-9971-AEB8A1B0A81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РАЗНОЦВЕТНЫЕ ЛИЦА</a:t>
            </a:r>
            <a:br>
              <a:rPr sz="2000"/>
            </a:br>
            <a:br>
              <a:rPr sz="1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219280" y="620640"/>
            <a:ext cx="360036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85" name="Picture 23" descr="ToshibaHermit"/>
          <p:cNvPicPr/>
          <p:nvPr/>
        </p:nvPicPr>
        <p:blipFill>
          <a:blip r:embed="rId1"/>
          <a:stretch/>
        </p:blipFill>
        <p:spPr>
          <a:xfrm>
            <a:off x="611280" y="1476360"/>
            <a:ext cx="799308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95640" y="291960"/>
            <a:ext cx="40320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ff"/>
                </a:solidFill>
                <a:latin typeface="Tahoma"/>
              </a:rPr>
              <a:t>Вывод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476600"/>
          </a:xfrm>
          <a:prstGeom prst="rect">
            <a:avLst/>
          </a:prstGeom>
          <a:noFill/>
          <a:ln w="19080">
            <a:solidFill>
              <a:srgbClr val="00ff00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Много различий между народами, а ещё больше схожего, общего, ибо они составляют человечество. В наши дни рейсы кораблей и самолетов, линии почтовой, телеграфной и спутниковой связи, отношения международного торгового и культурного сотрудничества тесно охватили Земной шар. Ни один народ сегодня не может замкнуться в своих национальных границах. Уже сейчас появились смешанные расы и в процессе дальнейшей эволюции, наверное, будет наблюдаться все большее и большее сглаживание расовых различий. С течением времени расовые признаки исчезнут, так как блага современной цивилизации дают человечеству возможность гораздо меньше зависеть от природных условий: жары и холода, солнца и вет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-268200" y="0"/>
            <a:ext cx="9532800" cy="71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Tahoma"/>
              </a:rPr>
              <a:t>Цели  и  задачи  проек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31795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Tahoma"/>
              </a:rPr>
              <a:t>Цель проекта – узнать больше о различных расах и народа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00"/>
                </a:solidFill>
                <a:latin typeface="Tahoma"/>
              </a:rPr>
              <a:t>Задачи проекта</a:t>
            </a:r>
            <a:r>
              <a:rPr b="1" i="1" lang="ru-RU" sz="2800" spc="-1" strike="noStrike">
                <a:solidFill>
                  <a:srgbClr val="ff9900"/>
                </a:solidFill>
                <a:latin typeface="Tahoma"/>
              </a:rPr>
              <a:t>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00"/>
                </a:solidFill>
                <a:latin typeface="Tahoma"/>
              </a:rPr>
              <a:t>научиться работать с учебной литературо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Tahoma"/>
              </a:rPr>
              <a:t>выделять главное из большого количества информации.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cc"/>
                </a:solidFill>
                <a:latin typeface="Tahoma"/>
              </a:rPr>
              <a:t>Основополагающие и проблемные вопрос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4149720"/>
            <a:ext cx="4038480" cy="23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00"/>
                </a:solidFill>
                <a:latin typeface="Tahoma"/>
              </a:rPr>
              <a:t>Основополагающий вопрос -  </a:t>
            </a: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почему возникли человеческие рас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Tahoma"/>
              </a:rPr>
              <a:t>Проблемные вопросы: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Сколько рас на Земл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Почему у людей возникли расовые признак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Представители каких рас проживают в Великом Новгород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7" descr="img136"/>
          <p:cNvPicPr/>
          <p:nvPr/>
        </p:nvPicPr>
        <p:blipFill>
          <a:blip r:embed="rId1"/>
          <a:stretch/>
        </p:blipFill>
        <p:spPr>
          <a:xfrm>
            <a:off x="611280" y="1700280"/>
            <a:ext cx="338436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2879640"/>
          </a:xfrm>
          <a:prstGeom prst="rect">
            <a:avLst/>
          </a:prstGeom>
          <a:noFill/>
          <a:ln w="15840">
            <a:solidFill>
              <a:srgbClr val="ff5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99"/>
                </a:solidFill>
                <a:latin typeface="Tahoma"/>
              </a:rPr>
              <a:t>Гипотеза</a:t>
            </a:r>
            <a:r>
              <a:rPr b="0" lang="ru-RU" sz="4800" spc="-1" strike="noStrike">
                <a:solidFill>
                  <a:srgbClr val="cc9900"/>
                </a:solidFill>
                <a:latin typeface="Tahoma"/>
              </a:rPr>
              <a:t> – </a:t>
            </a:r>
            <a:r>
              <a:rPr b="0" lang="ru-RU" sz="4400" spc="-1" strike="noStrike">
                <a:solidFill>
                  <a:srgbClr val="cc9900"/>
                </a:solidFill>
                <a:latin typeface="Tahoma"/>
              </a:rPr>
              <a:t>исчезнут ли со временем признаки отдельных рас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8" descr="watermark_300x"/>
          <p:cNvPicPr/>
          <p:nvPr/>
        </p:nvPicPr>
        <p:blipFill>
          <a:blip r:embed="rId1"/>
          <a:stretch/>
        </p:blipFill>
        <p:spPr>
          <a:xfrm>
            <a:off x="2843280" y="3357720"/>
            <a:ext cx="316872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Tahoma"/>
              </a:rPr>
              <a:t>Содержательная  ча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243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Сейчас на Земле живет почти 6 млрд. человек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Люди отличаются по внешнему виду – по цвету кожи, волос, глаз, по форме черепа, лица. Все эти различия появились очень давно, когда на Земле было мало людей. Отдельные их группы жили далеко одна от другой, в разных природных условия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Цвет кожи и другие внешние признаки, которыми одна группа людей отличается от другой, называют </a:t>
            </a:r>
            <a:r>
              <a:rPr b="0" i="1" lang="ru-RU" sz="2400" spc="-1" strike="noStrike">
                <a:solidFill>
                  <a:srgbClr val="ff3300"/>
                </a:solidFill>
                <a:latin typeface="Tahoma"/>
              </a:rPr>
              <a:t>расовыми признаками. </a:t>
            </a: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Они передаются из поколения к поколению, от родителей к детя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Группы людей со сходными расовыми признаками называют </a:t>
            </a:r>
            <a:r>
              <a:rPr b="0" i="1" lang="ru-RU" sz="2400" spc="-1" strike="noStrike">
                <a:solidFill>
                  <a:srgbClr val="ff3300"/>
                </a:solidFill>
                <a:latin typeface="Tahoma"/>
              </a:rPr>
              <a:t>человеческими расами</a:t>
            </a: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. Основных человеческих рас три: европеоидная, монголоидная и негроидна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Европеоидная  рас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38480" cy="4619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ешний вид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европеоидной расы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одинаков: одни из них имеют светлую кожу, другие – смуглую; волосы у них могут быть и волнистые, и прямые, светлые и темные. К европеоидной расе принадлежит большинство народов Евраз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844640"/>
            <a:ext cx="40384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600720" cy="4537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92929"/>
                </a:solidFill>
                <a:latin typeface="Tahoma"/>
              </a:rPr>
              <a:t>Негроидная  рас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4038480" cy="4464360"/>
          </a:xfrm>
          <a:prstGeom prst="rect">
            <a:avLst/>
          </a:prstGeom>
          <a:noFill/>
          <a:ln w="9360">
            <a:solidFill>
              <a:srgbClr val="292929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ahoma"/>
              </a:rPr>
              <a:t>Люди </a:t>
            </a:r>
            <a:r>
              <a:rPr b="0" i="1" lang="ru-RU" sz="2400" spc="-1" strike="noStrike">
                <a:solidFill>
                  <a:srgbClr val="292929"/>
                </a:solidFill>
                <a:latin typeface="Tahoma"/>
              </a:rPr>
              <a:t>негроидной расы </a:t>
            </a:r>
            <a:r>
              <a:rPr b="0" lang="ru-RU" sz="2400" spc="-1" strike="noStrike">
                <a:solidFill>
                  <a:srgbClr val="292929"/>
                </a:solidFill>
                <a:latin typeface="Tahoma"/>
              </a:rPr>
              <a:t>отличаются темным цветом кожи. У них темные курчавые или волнистые волосы. Они имеют толстые губы и широкий нос. Народы этой расы живут в  экваториальных районах, в тропическом поясе, и лишь частично в умеренных поясах Земли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tretch/>
        </p:blipFill>
        <p:spPr>
          <a:xfrm>
            <a:off x="5003640" y="1989000"/>
            <a:ext cx="3705480" cy="4464360"/>
          </a:xfrm>
          <a:prstGeom prst="rect">
            <a:avLst/>
          </a:prstGeom>
          <a:ln w="9360">
            <a:solidFill>
              <a:srgbClr val="2929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Монголоидная   рас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114800" cy="3971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У народов </a:t>
            </a:r>
            <a:r>
              <a:rPr b="0" i="1" lang="ru-RU" sz="2000" spc="-1" strike="noStrike">
                <a:solidFill>
                  <a:srgbClr val="ffff00"/>
                </a:solidFill>
                <a:latin typeface="Tahoma"/>
              </a:rPr>
              <a:t>монголоидной расы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желтоватый цвет кожи, черные прямые волосы, узкий разрез глаз, выступающие скулы. К этой расе принадлежат монголы, китайцы, японцы, корейцы и другие народы Азии, а также индейцы - коренные обитатели Америки. Китайцы – самый многочисленный народ Земли – их уже более одного миллиарда челове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5148360" y="1989000"/>
            <a:ext cx="3384360" cy="3888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5050"/>
                </a:solidFill>
                <a:latin typeface="Tahoma"/>
              </a:rPr>
              <a:t>Расы  в  Великом Новгород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В Новгороде есть представители европеоидной расы: русские, украинцы, белорусы и др., а так же представители монголоидной расы: китайцы, корейцы, татары, казахи и др. Представителям негроидной расы будет трудно выжить в нашем суровом климат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21:21:37Z</dcterms:created>
  <dc:creator>MashkovAA</dc:creator>
  <dc:description/>
  <dc:language>en-US</dc:language>
  <cp:lastModifiedBy>магазин</cp:lastModifiedBy>
  <dcterms:modified xsi:type="dcterms:W3CDTF">2011-05-05T17:56:59Z</dcterms:modified>
  <cp:revision>13</cp:revision>
  <dc:subject/>
  <dc:title>РАЗНОЦВЕТНЫЕ ЛИЦ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